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D47-FF53-45FE-A30A-79CB7BFB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CC7-3C3A-424F-BE52-33D413C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582-0344-46BE-AA42-DD431FE0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780-BBC4-4B27-A407-60FABB8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11E2-7584-46ED-9BBD-08091A5F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914-5644-4677-97A2-EE27FE9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96DD-4048-4F14-AC93-1482481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70A4-1200-4328-8ECC-0CDCB50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AC5-3E83-471D-8D14-7C628E8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DFA9-2632-48D5-8260-EE625AA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F85-4908-4A04-904D-AFEEE3B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DFA-4867-4984-83C7-6BFC084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7393-BE92-4A90-A4D5-85F444EA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8695-1275-4EBD-BF9B-C37EEB73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FB1-8BCE-4FC5-A924-16F1C55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1D91-DE45-4764-A30E-3D45F08F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289-C178-45B7-B0B4-2A822F2A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652-8D20-450E-B169-3540AB6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70D-0F85-4B56-B4B5-B0677255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97B-FF44-4453-A4D4-89F522D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BE3-34FB-4DC3-9FFF-77532BD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C85-B4D5-4873-B7D9-605D768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0AC-4662-41DE-A50F-14E9C407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728-BEEF-48B5-BC8A-8E85860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B59-914D-4CA9-90B6-80FE9C6B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o3 copy"/>
          <p:cNvPicPr/>
          <p:nvPr/>
        </p:nvPicPr>
        <p:blipFill>
          <a:blip r:embed="rId3"/>
          <a:stretch/>
        </p:blipFill>
        <p:spPr>
          <a:xfrm>
            <a:off x="8077320" y="228600"/>
            <a:ext cx="8380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437-99ED-4068-8C1E-A5698606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ickey@fin-tek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EE7-F133-48D6-8979-172D2287A4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derstanding Ozone Feed Gas System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2000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nefits of Oxygen as the Preferred Feed Gas for Aquatic Life Suppor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89548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ALSO 20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B22-D90F-4281-A072-580E27A680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xygen Ozone Systems are More Reliab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ied air systems produce 3 to 4 times the nitric acid as oxygen systems, with more corro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maintenance is requi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concentrator molecular sieve is highly reli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ecular sieve material does not require replaceme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FEF9-6C12-4055-A17D-0A20FDE0F5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ummary: Oxygen Feed Gas is the Right Cho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er investment cost in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er footpri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er operational cos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plified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r less equipment mainten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ximum effic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3A6F-55E9-41DB-9EB8-DC3050D657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imal Health is the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stem efficiency is pointless without a positiv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fed system disinfects effectiv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ills microorganisms on contac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apidly oxidizes organic and inorganic mat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 dangerous byproduc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there side effect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A45-06A7-477A-B546-88C2D9B81C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Feed Gas Changes Water Chemist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s dissolved in water reflects composition of feed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ied air systems may increase levels of dissolved nitro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systems introduce no nitro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systems introduce only small amount of oxygen (3.2 PPM ma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8D69-926A-442F-BE0C-0713BD940E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solved Nitrogen Can Be Dangerous to Fis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solved gases threaten Gas Bubble Dise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itrogen concentration from dried air system makes nitrogen narcosis the greater thre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likelihood of excessive nitrogen occurring in the water is greater in an air-fed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083-95C8-48D4-8432-11CFEBD725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n Higher Dissolved Oxygen(DO</a:t>
            </a:r>
            <a:r>
              <a:rPr b="1" lang="en-US" sz="34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) Be a Threat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uming maximum system parameters, DO</a:t>
            </a:r>
            <a:r>
              <a:rPr b="0" lang="en-US" sz="22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limited and an unlikely thre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example, oxygen fed system will lead to 3.2 PPM DO</a:t>
            </a:r>
            <a:r>
              <a:rPr b="0" lang="en-US" sz="22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crease based on 93% oxygen feed g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water temp assum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zone injected into 20% sidestream (or les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95% mass transfer r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5 psi contact/degas tan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aquariums must provide the means to control super-saturation of any dissolved g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D51-68C0-4EBE-8893-9384AAFF43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solved Oxygen in Natural Water Bod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t increase from oxygen systems in persp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26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xists already in natural water bod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alt water: normal 7.5 – 8.5 PPM (mg/l) at 20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; high level is 12 PP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al reefs: normal is 4 – 6 PPM (mg/l) at 20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resh water: normal 9 PPM (mg/l) at 20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; high is 10 PP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199-85E1-43B8-B8EA-65A8C8BA3E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quarium Limits for DO</a:t>
            </a:r>
            <a:r>
              <a:rPr b="1" lang="en-US" sz="38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aquarium, 12 PPM dissolved oxygen turns water “milky”, prompting redu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aquarium, 20 PPM can begin to kill aquatic lif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super-saturated gases are dangerous to aquatic lif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EA40-9382-4EB1-B833-1897FAE3F2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xygen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quatic life needs dissolved oxy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amount of added oxygen from ozone system can be benefi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quariums have an oxygen dem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quatic life can be in danger if there is not enough DO</a:t>
            </a:r>
            <a:r>
              <a:rPr b="0" lang="en-US" sz="2600" spc="-1" strike="noStrike" baseline="-1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the wa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537-C9AF-44DC-A57E-26FBC44782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quarium Water Qu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ll cases, a properly designed commercial aquarium will provide the means to control super-saturation of any dissolved gases in the animal habit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se of oxygen-fed ozone systems offers controlled mass-transfer, manageable operation of the entire system, smaller footprint for injector assemblies, smaller de-gas system, and easier maintenance of the ozone system in general with dramatically reduced nitric acid build-u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0390-36F7-4800-A109-3FB5178619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zone Disinfection for Aquariu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zone is the preferred disinfection/oxidation op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ly effective and is safe for living th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ed gas conditioning is required for all ozone gener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technical options in ozone system desig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264-1900-4F6F-85C8-0289F47A72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191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enry's Law Formul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p = ek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 = natural logarithm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= partial pressure of the solute above the solution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 = concentration of the solute in the solu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k = Henry's constan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aking the natural logarithm of the formula, gives us the more commonly used formul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 = kc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Diagram 8" descr=""/>
          <p:cNvPicPr/>
          <p:nvPr/>
        </p:nvPicPr>
        <p:blipFill>
          <a:blip r:embed="rId1"/>
          <a:stretch/>
        </p:blipFill>
        <p:spPr>
          <a:xfrm>
            <a:off x="5562720" y="3505320"/>
            <a:ext cx="3124080" cy="59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icture2"/>
          <p:cNvPicPr/>
          <p:nvPr/>
        </p:nvPicPr>
        <p:blipFill>
          <a:blip r:embed="rId2"/>
          <a:stretch/>
        </p:blipFill>
        <p:spPr>
          <a:xfrm>
            <a:off x="5334120" y="2286000"/>
            <a:ext cx="2895480" cy="1252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-Transfer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156360" y="422280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0"/>
          <p:cNvSpPr/>
          <p:nvPr/>
        </p:nvSpPr>
        <p:spPr>
          <a:xfrm flipV="1" rot="10800000">
            <a:off x="5027400" y="4188960"/>
            <a:ext cx="381132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The most efficient way to get the ozone into the water is to raise the O</a:t>
            </a:r>
            <a:r>
              <a:rPr b="1" lang="en-US" sz="900" spc="-1" strike="noStrike" baseline="-1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 concentration and lower the gas to liquid ratio (volume of gas/volume of liquid [Vg/Vl ]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ising the ozone concentration, while lowering the gas to liquid ratio, and operating under the highest pressure available with the most aggressive mixing components provides the most efficient mass transfer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F8B-531F-4ECE-8737-AC40481F98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-360" y="-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201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636560" y="1871640"/>
            <a:ext cx="5830920" cy="40719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Basic Ozone System (without protein skimme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975-D3F5-4F1A-A41C-3C016C32D5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Basic Ozone System (with protein skimme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811160" y="2590920"/>
            <a:ext cx="5511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749-3B87-4326-AE30-9E41567FB5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International Ozone Associ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US Environmental Protection Agency (EP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Louisiana State Universit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Water Research Cen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ish Disease – Diagnosis and Treatment- Edward D. Nov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teve Kaiser Vice President – Marine Science &amp; Engineering Atlantis Resor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ave Derk - Lead Life Support/Water Quality Brookfield Zo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t SeQual Technologies, Inc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irSep Corporation, Inc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azzei Injector Corpor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loward H2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ICE International Consulting Enterprises (Ozone Consultan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KS Ozone Consultant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EL Ozo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in-tek Ozo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F51-034B-4E1F-A2F8-19714732FC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quarium animals thrive in a clean, natural environ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 YOU!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ickey Wals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ield Application Engine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in-Tek Corpor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6 Leo Pla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ayne, NJ 0747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fice 973-988-108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ell 862-368-412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ickey@fin-tek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CEC-8253-4855-80FC-8713397228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xygen vs. Dried Air Feed G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zone generators manufacture ozone from a feed g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ed gas must be “conditioned”; humidity is a major problem, causing nitric acid corro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ed gas must be dried to very low dew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lder technology used dried air as feed g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technology uses oxygen concentrators, removing water, impurities and nitrog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8452-A44B-47FD-A447-04A0EFECDE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xygen Feed Gas is the Superior Cho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syste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ave less compone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quire less mainten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e is more effici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ave almost no nitrogen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is better for animals in aquariu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AEBF-0F98-4435-B598-291D96DC2E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volution of Ozone Feed Gas Technolog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906: dried air (using desiccant) for municipal water treat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940’s: Early Pressure Swing Adsorption (PSA) air driers deliver low oxygen concentration (21% oxygen) – and still 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958:  PSA oxygen concentrators yield very dry feed gas with ~93% oxygen for effici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98B7-5779-4D11-B9B9-9C16FEC397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ried Air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ccant (replaceable system), thermal swing adsorption (TSA) (regenerate with heat); and PSA (self-regenerative) most commonly used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ed gas typically 21% oxygen, 78% nitrogen, 1% trace g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erties of PSA air dry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air compressed to 100 psi – 70% of the air recovered for feed g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air flow about 2 X oxygen system for same ozone outpu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inuous maintenance requir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w points -30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 to -100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430-3919-4AB6-B598-F39658B107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xygen Fed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sure Swing Adsorption technolo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ed gas typically 93% oxygen, 3.1% nitrogen, 3.8% argon, 0.1% trace g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put air at 25 to 90 psi (depending on size), 9% of the air recovered as oxyg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ighly reliable PSA oxygen concentrators sourced from healthca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ery low dew points typical, at -100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E91F-5F6D-4272-B830-DF5F4EC33B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xygen System is Efficient X 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fed systems more efficient than dried air when measured a variety of w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xygen fed ozone generators make at least twice the ozone (grams/hour) as same sized generator using dried ai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3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systems produce ½ gas flow as dried air system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300" spc="-1" strike="noStrike" baseline="-1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systems make ozone concentration 2 times greater than dried ai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2E4-573A-45B9-BDC3-E55F1023E7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Oxygen Systems Provide Better Performa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r ozone concentration provides better mass transfer of ozone into sol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ss off-gas, for a safer and more efficient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er total gas flow permits smaller booster pumps and smaller injectors and even smaller side-stream fl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7:49:54Z</dcterms:created>
  <dc:creator>bhamil</dc:creator>
  <dc:description/>
  <dc:language>en-US</dc:language>
  <cp:lastModifiedBy>Roger Phillips</cp:lastModifiedBy>
  <dcterms:modified xsi:type="dcterms:W3CDTF">2011-06-24T19:29:01Z</dcterms:modified>
  <cp:revision>42</cp:revision>
  <dc:subject/>
  <dc:title>Understanding Ozone Feed Gas Systems </dc:title>
</cp:coreProperties>
</file>